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33668-B722-4D13-AE13-5E78FE49D159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6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0A15A-87B7-4E1E-ACD7-CA42C3B6FBFD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7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2E30A-7381-450C-830B-430E938E7E9E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7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AA440-B3F2-45CF-965D-8FFC4FD64915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7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FE758-D1E1-41FA-97D9-A1540CF723A7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8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15BB5-FA33-4EDA-A48F-4DE25499DE77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8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EB85B-A25C-4128-827E-28FCC4E971D8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8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DFD37-992D-422B-9C30-2A256A65B825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8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E63A7-C26D-4DD3-95FE-49BD4FF47C9A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9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D7426-6BE4-4F26-A671-C3150CDD71C2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9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8EB72-C2B0-4B53-8374-3EC67DE03CBB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5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B781D-9B5C-4F48-9E89-2D77814EE3C2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6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7E710-5309-458B-8C95-E5DB3DAE1CAB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6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557A6-D6EB-4D66-8809-915234B3E794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4EC9A7-686E-481F-9A88-6C8987A2C30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E3B893-DB95-410A-AA70-DAAC77919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4D148C-DCAE-482F-9465-DE400C4B8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C3C4FC-D894-4B80-AE18-274FA751CCB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AF627A-0C2A-416B-8DC7-F3B06342A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9E6800-061B-4EF5-98EF-0A0C3E83C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26E871-8A26-45F0-BAAA-F87E875E5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27C816-6867-40B0-8922-F9E4A69CC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7F2F5A-289F-44B6-B75C-31416E5A0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9041AB-1E13-46F2-9E5F-611EE5A39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16C580-1718-4F43-B26F-42968B258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F3E232-D614-4EAC-8EC7-1D29C3FC1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8F73B-988F-4674-A832-C741F2AF9C9F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十六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急性中毒患者的救护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灯片编号占位符 5"/>
          <p:cNvSpPr/>
          <p:nvPr/>
        </p:nvSpPr>
        <p:spPr>
          <a:xfrm>
            <a:off x="4284720" y="6524640"/>
            <a:ext cx="122400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66CFE-D82A-42BA-83AF-67D2C615A6D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78920" y="1628640"/>
            <a:ext cx="8659800" cy="45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二）清除眼内的毒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眼内毒物可用清水或生理盐水反复冲洗，冲洗时间</a:t>
            </a: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不少于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  <a:ea typeface="宋体"/>
              </a:rPr>
              <a:t>5</a:t>
            </a: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分钟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避免使用中和性溶液冲洗，以免发生化学反应，造成角膜、结膜的损伤。冲洗后给予抗生素眼药水或眼膏，防治继发感染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灯片编号占位符 5"/>
          <p:cNvSpPr/>
          <p:nvPr/>
        </p:nvSpPr>
        <p:spPr>
          <a:xfrm>
            <a:off x="4356000" y="6524640"/>
            <a:ext cx="12016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66C1C-D368-4B0D-82DF-500F4422752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50920" y="1628640"/>
            <a:ext cx="8588160" cy="45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三）清除胃肠道内的毒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对于胃肠道内尚未吸收的毒物，应尽早给予催吐、洗胃、灌肠、导泻或活性炭吸附等方法清除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灯片编号占位符 5"/>
          <p:cNvSpPr/>
          <p:nvPr/>
        </p:nvSpPr>
        <p:spPr>
          <a:xfrm>
            <a:off x="4572000" y="6524640"/>
            <a:ext cx="11523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6782B-D7AD-4580-B055-42E1F78ED66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8964720" cy="48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三、促进已吸收毒物的排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一）利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静脉补液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利尿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调节尿液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pH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灯片编号占位符 5"/>
          <p:cNvSpPr/>
          <p:nvPr/>
        </p:nvSpPr>
        <p:spPr>
          <a:xfrm>
            <a:off x="4427640" y="6524640"/>
            <a:ext cx="9144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28C37-8392-495B-BA6A-300AEFB8D5E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79280" y="1412640"/>
            <a:ext cx="8785440" cy="48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二）吸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三）血液净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透析疗法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血液灌流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血浆置换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灯片编号占位符 5"/>
          <p:cNvSpPr/>
          <p:nvPr/>
        </p:nvSpPr>
        <p:spPr>
          <a:xfrm>
            <a:off x="4500720" y="6524640"/>
            <a:ext cx="9144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DA93E-9F71-403F-9D24-49353FCD89B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8964720" cy="48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四、特效解毒剂的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55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一）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高铁血红蛋白血症解毒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小剂量亚甲蓝（美蓝）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可使高铁血红蛋白还原为正常的血红蛋白，可用于亚硝酸盐、硝基苯、苯胺等中毒引起的高铁血红蛋白血症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灯片编号占位符 5"/>
          <p:cNvSpPr/>
          <p:nvPr/>
        </p:nvSpPr>
        <p:spPr>
          <a:xfrm>
            <a:off x="4716360" y="6524640"/>
            <a:ext cx="9144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0B0CA-C9DE-470F-BDC7-0D7AC95BF64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8964720" cy="48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55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二）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金属中毒解毒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依地酸钙钠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：为最常用的氨酸螯合剂，适用于铅、锰、铜、镉中毒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二巯基丙醇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：为最常用的巯基螯合剂，适用于砷、汞、金、锑中毒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二巯基丁二酸钠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：为广谱金属解毒剂，适用于铅、汞、银、铜、砷、锑、镍等金属中毒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lnSpc>
                <a:spcPct val="14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灯片编号占位符 5"/>
          <p:cNvSpPr/>
          <p:nvPr/>
        </p:nvSpPr>
        <p:spPr>
          <a:xfrm>
            <a:off x="4356000" y="6524640"/>
            <a:ext cx="1079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8771F-268E-41FC-B6FF-10D333DA708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8964720" cy="48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55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三）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中枢神经系统抑制剂解毒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纳洛酮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：为吗啡受体拮抗剂，是阿片类麻醉药的解毒剂，对麻醉镇痛引起的呼吸抑制有特异的拮抗作用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氟马西尼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：苯二氮䓬类药物中毒的拮抗剂，用于安定、利眠宁等中毒的治疗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lnSpc>
                <a:spcPct val="14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lnSpc>
                <a:spcPct val="14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灯片编号占位符 5"/>
          <p:cNvSpPr/>
          <p:nvPr/>
        </p:nvSpPr>
        <p:spPr>
          <a:xfrm>
            <a:off x="4572000" y="6524640"/>
            <a:ext cx="10080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80AA9-195C-4D48-8791-86542655F17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8964720" cy="48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55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四）有机磷杀虫药中毒解毒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常用的有阿托品、解磷定、酸戊已奎醚注射液（长托宁）等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55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五）氰化物中毒解毒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一般采用亚硝酸盐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硫代硫酸钠疗法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灯片编号占位符 5"/>
          <p:cNvSpPr/>
          <p:nvPr/>
        </p:nvSpPr>
        <p:spPr>
          <a:xfrm>
            <a:off x="4500720" y="6524640"/>
            <a:ext cx="9144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F9511-D5B4-4078-AEF2-DDCC5AA8CBF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642160" cy="48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五、对症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55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大多数急性中毒并无特效解毒剂，或短时间内很难明确毒物的种类和性质，因此对症支持治疗非常重要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55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另外，还应采取积极措施维护心、脑、肺、肝、肾等重要脏器功能，防治并发症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用的中毒抢救技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56760" y="149976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、催吐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二、洗胃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1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BB763-F560-4601-A04D-903A7240C36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843280" y="1915920"/>
            <a:ext cx="396072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急性中毒的基本救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常用的中毒抢救技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常见急性中毒患者的救护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15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16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8"/>
          <p:cNvSpPr/>
          <p:nvPr/>
        </p:nvSpPr>
        <p:spPr>
          <a:xfrm>
            <a:off x="1991160" y="2276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22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23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4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5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26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用的中毒抢救技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56760" y="1412640"/>
            <a:ext cx="8610840" cy="496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、催吐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55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一）适应证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适用于神志清醒且能合作的非腐蚀性毒物中毒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4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7A1A4-6B00-49D4-B182-F3B4180E0E9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用的中毒抢救技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55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二）禁忌证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昏迷、惊厥状态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腐蚀性毒物中毒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食管胃底静脉曲张、主动脉瘤、消化性溃疡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休克、高血压、肺水肿、冠心病、妊娠、年老体弱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饮用汽油、柴油、煤油等石油蒸馏物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用的中毒抢救技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250920" y="1499760"/>
            <a:ext cx="87170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55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三）方法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机械催吐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药物催吐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9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BE62E-D0AC-434C-8C20-32BEBBF9A1E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用的中毒抢救技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55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四）注意事项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急性中毒者，应迅速采用口服催吐法，必要时进行洗胃，减少毒物的吸收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当呕吐发生时，患者采取左侧卧位，头部放低，面向左侧，臀部略抬高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幼儿应俯卧，头向下，臀部略抬高，以防止呕吐物吸入气管发生窒息或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用的中毒抢救技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78920" y="1499760"/>
            <a:ext cx="87886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二、洗胃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55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一）适应证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口服毒物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  <a:ea typeface="宋体"/>
              </a:rPr>
              <a:t>6</a:t>
            </a: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小时内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洗胃效果最好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非腐蚀性毒物中毒，如镇静催眠药、有机磷杀虫剂、生物碱、重金属类及食物中毒等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幽门梗阻伴有明显胃潴留扩张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4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6D5C3-CBF7-4F9B-B11A-EFA6B382330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用的中毒抢救技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-360" y="1499760"/>
            <a:ext cx="89679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55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二）禁忌证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强酸、强碱等腐蚀性毒物中毒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消化性溃疡、食管胃底静脉曲张、胃癌、上消化道大出血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胸主动脉瘤、重度心肺功能不全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惊厥或抽搐未控制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7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02330-3192-4E22-85CA-9495181EB16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用的中毒抢救技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424720" cy="503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55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三）常用洗胃液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保护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吸附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中和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解毒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沉淀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溶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8CF72-8384-4B54-B0A8-72281EA15E1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线形标注 2 2"/>
          <p:cNvSpPr/>
          <p:nvPr/>
        </p:nvSpPr>
        <p:spPr>
          <a:xfrm>
            <a:off x="3692520" y="1165320"/>
            <a:ext cx="5343480" cy="75708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8361"/>
              <a:gd name="adj6" fmla="val -25560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豆浆、牛奶、蛋清、米汤、植物油暂时保护胃黏膜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线形标注 1 3"/>
          <p:cNvSpPr/>
          <p:nvPr/>
        </p:nvSpPr>
        <p:spPr>
          <a:xfrm>
            <a:off x="3692520" y="1995480"/>
            <a:ext cx="5343480" cy="576360"/>
          </a:xfrm>
          <a:prstGeom prst="borderCallout1">
            <a:avLst>
              <a:gd name="adj1" fmla="val 18750"/>
              <a:gd name="adj2" fmla="val -8333"/>
              <a:gd name="adj3" fmla="val 102564"/>
              <a:gd name="adj4" fmla="val -25500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活性炭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线形标注 1 4"/>
          <p:cNvSpPr/>
          <p:nvPr/>
        </p:nvSpPr>
        <p:spPr>
          <a:xfrm>
            <a:off x="3692520" y="2690640"/>
            <a:ext cx="5343480" cy="1025640"/>
          </a:xfrm>
          <a:prstGeom prst="borderCallout1">
            <a:avLst>
              <a:gd name="adj1" fmla="val 18750"/>
              <a:gd name="adj2" fmla="val -8333"/>
              <a:gd name="adj3" fmla="val 47722"/>
              <a:gd name="adj4" fmla="val -26300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吞服强碱时：选择弱酸，如</a:t>
            </a:r>
            <a:r>
              <a:rPr b="0" lang="zh-CN" sz="1800" spc="-1" strike="noStrike">
                <a:solidFill>
                  <a:srgbClr val="ff0000"/>
                </a:solidFill>
                <a:latin typeface="宋体"/>
                <a:ea typeface="宋体"/>
              </a:rPr>
              <a:t>食醋、果汁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等进行中和。吞服强酸时：选择弱碱，如</a:t>
            </a:r>
            <a:r>
              <a:rPr b="0" lang="zh-CN" sz="1800" spc="-1" strike="noStrike">
                <a:solidFill>
                  <a:srgbClr val="ff0000"/>
                </a:solidFill>
                <a:latin typeface="宋体"/>
                <a:ea typeface="宋体"/>
              </a:rPr>
              <a:t>氢氧化铝凝胶、镁乳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等进行中和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线形标注 1 5"/>
          <p:cNvSpPr/>
          <p:nvPr/>
        </p:nvSpPr>
        <p:spPr>
          <a:xfrm>
            <a:off x="3708360" y="3860640"/>
            <a:ext cx="5327640" cy="576360"/>
          </a:xfrm>
          <a:prstGeom prst="borderCallout1">
            <a:avLst>
              <a:gd name="adj1" fmla="val 18750"/>
              <a:gd name="adj2" fmla="val -8333"/>
              <a:gd name="adj3" fmla="val -20291"/>
              <a:gd name="adj4" fmla="val -25731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如：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∶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500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高锰酸钾或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%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碳酸氢钠溶液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线形标注 1 6"/>
          <p:cNvSpPr/>
          <p:nvPr/>
        </p:nvSpPr>
        <p:spPr>
          <a:xfrm>
            <a:off x="3708360" y="4653000"/>
            <a:ext cx="5327640" cy="720720"/>
          </a:xfrm>
          <a:prstGeom prst="borderCallout1">
            <a:avLst>
              <a:gd name="adj1" fmla="val 18750"/>
              <a:gd name="adj2" fmla="val -8333"/>
              <a:gd name="adj3" fmla="val -56208"/>
              <a:gd name="adj4" fmla="val -26805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如硫酸钠与可溶性钡盐作用生成不溶性硫酸钡，生理盐水与硝酸盐作用生成氯化银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线形标注 1 7"/>
          <p:cNvSpPr/>
          <p:nvPr/>
        </p:nvSpPr>
        <p:spPr>
          <a:xfrm>
            <a:off x="3708360" y="5567400"/>
            <a:ext cx="5316480" cy="828720"/>
          </a:xfrm>
          <a:prstGeom prst="borderCallout1">
            <a:avLst>
              <a:gd name="adj1" fmla="val 18750"/>
              <a:gd name="adj2" fmla="val -8333"/>
              <a:gd name="adj3" fmla="val -79078"/>
              <a:gd name="adj4" fmla="val -3134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饮用汽油、煤油等脂溶性毒物者，先用液体石蜡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5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00ml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" dur="50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" dur="50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6" dur="50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8" dur="50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1" dur="50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3" dur="50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11D58-2D41-4D6A-8A95-308F1BA850B7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见急性中毒患者的救护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09" name="Group 4"/>
          <p:cNvGrpSpPr/>
          <p:nvPr/>
        </p:nvGrpSpPr>
        <p:grpSpPr>
          <a:xfrm>
            <a:off x="468360" y="907920"/>
            <a:ext cx="4798800" cy="720360"/>
            <a:chOff x="468360" y="907920"/>
            <a:chExt cx="4798800" cy="720360"/>
          </a:xfrm>
        </p:grpSpPr>
        <p:grpSp>
          <p:nvGrpSpPr>
            <p:cNvPr id="210" name="Group 5"/>
            <p:cNvGrpSpPr/>
            <p:nvPr/>
          </p:nvGrpSpPr>
          <p:grpSpPr>
            <a:xfrm>
              <a:off x="468360" y="907920"/>
              <a:ext cx="761400" cy="720360"/>
              <a:chOff x="468360" y="907920"/>
              <a:chExt cx="761400" cy="720360"/>
            </a:xfrm>
          </p:grpSpPr>
          <p:sp>
            <p:nvSpPr>
              <p:cNvPr id="211" name="AutoShape 6"/>
              <p:cNvSpPr/>
              <p:nvPr/>
            </p:nvSpPr>
            <p:spPr>
              <a:xfrm>
                <a:off x="474480" y="920160"/>
                <a:ext cx="755280" cy="708120"/>
              </a:xfrm>
              <a:prstGeom prst="hexagon">
                <a:avLst>
                  <a:gd name="adj" fmla="val 26665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2" name="AutoShape 7"/>
              <p:cNvSpPr/>
              <p:nvPr/>
            </p:nvSpPr>
            <p:spPr>
              <a:xfrm>
                <a:off x="468360" y="907920"/>
                <a:ext cx="755640" cy="708120"/>
              </a:xfrm>
              <a:prstGeom prst="hexagon">
                <a:avLst>
                  <a:gd name="adj" fmla="val 2667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3" name="AutoShape 8"/>
              <p:cNvSpPr/>
              <p:nvPr/>
            </p:nvSpPr>
            <p:spPr>
              <a:xfrm>
                <a:off x="468360" y="950400"/>
                <a:ext cx="720720" cy="606240"/>
              </a:xfrm>
              <a:prstGeom prst="hexagon">
                <a:avLst>
                  <a:gd name="adj" fmla="val 26660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14" name="Line 9"/>
            <p:cNvSpPr/>
            <p:nvPr/>
          </p:nvSpPr>
          <p:spPr>
            <a:xfrm>
              <a:off x="1044360" y="1532160"/>
              <a:ext cx="3888000" cy="241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5" name="Text Box 10"/>
            <p:cNvSpPr/>
            <p:nvPr/>
          </p:nvSpPr>
          <p:spPr>
            <a:xfrm>
              <a:off x="1476360" y="1052280"/>
              <a:ext cx="3790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有机磷中毒患者的救护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6" name="Text Box 11"/>
            <p:cNvSpPr/>
            <p:nvPr/>
          </p:nvSpPr>
          <p:spPr>
            <a:xfrm>
              <a:off x="652680" y="9626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17" name="Group 12"/>
          <p:cNvGrpSpPr/>
          <p:nvPr/>
        </p:nvGrpSpPr>
        <p:grpSpPr>
          <a:xfrm>
            <a:off x="468360" y="1700280"/>
            <a:ext cx="4462200" cy="664920"/>
            <a:chOff x="468360" y="1700280"/>
            <a:chExt cx="4462200" cy="664920"/>
          </a:xfrm>
        </p:grpSpPr>
        <p:grpSp>
          <p:nvGrpSpPr>
            <p:cNvPr id="218" name="Group 13"/>
            <p:cNvGrpSpPr/>
            <p:nvPr/>
          </p:nvGrpSpPr>
          <p:grpSpPr>
            <a:xfrm>
              <a:off x="468360" y="1700280"/>
              <a:ext cx="811440" cy="664920"/>
              <a:chOff x="468360" y="1700280"/>
              <a:chExt cx="811440" cy="664920"/>
            </a:xfrm>
          </p:grpSpPr>
          <p:sp>
            <p:nvSpPr>
              <p:cNvPr id="219" name="AutoShape 14"/>
              <p:cNvSpPr/>
              <p:nvPr/>
            </p:nvSpPr>
            <p:spPr>
              <a:xfrm>
                <a:off x="475200" y="1711440"/>
                <a:ext cx="804600" cy="653760"/>
              </a:xfrm>
              <a:prstGeom prst="hexagon">
                <a:avLst>
                  <a:gd name="adj" fmla="val 3076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0" name="AutoShape 15"/>
              <p:cNvSpPr/>
              <p:nvPr/>
            </p:nvSpPr>
            <p:spPr>
              <a:xfrm>
                <a:off x="468360" y="1700280"/>
                <a:ext cx="804600" cy="653760"/>
              </a:xfrm>
              <a:prstGeom prst="hexagon">
                <a:avLst>
                  <a:gd name="adj" fmla="val 3076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1" name="AutoShape 16"/>
              <p:cNvSpPr/>
              <p:nvPr/>
            </p:nvSpPr>
            <p:spPr>
              <a:xfrm>
                <a:off x="515880" y="1739880"/>
                <a:ext cx="705960" cy="574560"/>
              </a:xfrm>
              <a:prstGeom prst="hexagon">
                <a:avLst>
                  <a:gd name="adj" fmla="val 3073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22" name="Line 17"/>
            <p:cNvSpPr/>
            <p:nvPr/>
          </p:nvSpPr>
          <p:spPr>
            <a:xfrm>
              <a:off x="1081800" y="2276280"/>
              <a:ext cx="3848760" cy="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3" name="Text Box 18"/>
            <p:cNvSpPr/>
            <p:nvPr/>
          </p:nvSpPr>
          <p:spPr>
            <a:xfrm>
              <a:off x="2005920" y="1771560"/>
              <a:ext cx="1704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百草枯中毒患者的救护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4" name="Text Box 19"/>
            <p:cNvSpPr/>
            <p:nvPr/>
          </p:nvSpPr>
          <p:spPr>
            <a:xfrm>
              <a:off x="676080" y="17506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25" name="Group 20"/>
          <p:cNvGrpSpPr/>
          <p:nvPr/>
        </p:nvGrpSpPr>
        <p:grpSpPr>
          <a:xfrm>
            <a:off x="468360" y="2492280"/>
            <a:ext cx="4537080" cy="665280"/>
            <a:chOff x="468360" y="2492280"/>
            <a:chExt cx="4537080" cy="665280"/>
          </a:xfrm>
        </p:grpSpPr>
        <p:grpSp>
          <p:nvGrpSpPr>
            <p:cNvPr id="226" name="Group 21"/>
            <p:cNvGrpSpPr/>
            <p:nvPr/>
          </p:nvGrpSpPr>
          <p:grpSpPr>
            <a:xfrm>
              <a:off x="468360" y="2492280"/>
              <a:ext cx="761400" cy="665280"/>
              <a:chOff x="468360" y="2492280"/>
              <a:chExt cx="761400" cy="665280"/>
            </a:xfrm>
          </p:grpSpPr>
          <p:sp>
            <p:nvSpPr>
              <p:cNvPr id="227" name="AutoShape 22"/>
              <p:cNvSpPr/>
              <p:nvPr/>
            </p:nvSpPr>
            <p:spPr>
              <a:xfrm>
                <a:off x="474480" y="250344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8" name="AutoShape 23"/>
              <p:cNvSpPr/>
              <p:nvPr/>
            </p:nvSpPr>
            <p:spPr>
              <a:xfrm>
                <a:off x="468360" y="24922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9" name="AutoShape 24"/>
              <p:cNvSpPr/>
              <p:nvPr/>
            </p:nvSpPr>
            <p:spPr>
              <a:xfrm>
                <a:off x="512640" y="253188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30" name="Line 25"/>
            <p:cNvSpPr/>
            <p:nvPr/>
          </p:nvSpPr>
          <p:spPr>
            <a:xfrm>
              <a:off x="1044360" y="3068640"/>
              <a:ext cx="3961080" cy="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1" name="Text Box 26"/>
            <p:cNvSpPr/>
            <p:nvPr/>
          </p:nvSpPr>
          <p:spPr>
            <a:xfrm>
              <a:off x="2150280" y="2563920"/>
              <a:ext cx="2009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急性灭鼠剂中毒患者的救护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2" name="Text Box 27"/>
            <p:cNvSpPr/>
            <p:nvPr/>
          </p:nvSpPr>
          <p:spPr>
            <a:xfrm>
              <a:off x="652680" y="2543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33" name="Group 28"/>
          <p:cNvGrpSpPr/>
          <p:nvPr/>
        </p:nvGrpSpPr>
        <p:grpSpPr>
          <a:xfrm>
            <a:off x="468360" y="3284640"/>
            <a:ext cx="4534920" cy="664920"/>
            <a:chOff x="468360" y="3284640"/>
            <a:chExt cx="4534920" cy="664920"/>
          </a:xfrm>
        </p:grpSpPr>
        <p:grpSp>
          <p:nvGrpSpPr>
            <p:cNvPr id="234" name="Group 29"/>
            <p:cNvGrpSpPr/>
            <p:nvPr/>
          </p:nvGrpSpPr>
          <p:grpSpPr>
            <a:xfrm>
              <a:off x="468360" y="3284640"/>
              <a:ext cx="810720" cy="664920"/>
              <a:chOff x="468360" y="3284640"/>
              <a:chExt cx="810720" cy="664920"/>
            </a:xfrm>
          </p:grpSpPr>
          <p:sp>
            <p:nvSpPr>
              <p:cNvPr id="235" name="AutoShape 30"/>
              <p:cNvSpPr/>
              <p:nvPr/>
            </p:nvSpPr>
            <p:spPr>
              <a:xfrm>
                <a:off x="475200" y="3295800"/>
                <a:ext cx="803880" cy="653760"/>
              </a:xfrm>
              <a:prstGeom prst="hexagon">
                <a:avLst>
                  <a:gd name="adj" fmla="val 30741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6" name="AutoShape 31"/>
              <p:cNvSpPr/>
              <p:nvPr/>
            </p:nvSpPr>
            <p:spPr>
              <a:xfrm>
                <a:off x="468360" y="3284640"/>
                <a:ext cx="803880" cy="653760"/>
              </a:xfrm>
              <a:prstGeom prst="hexagon">
                <a:avLst>
                  <a:gd name="adj" fmla="val 30741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7" name="AutoShape 32"/>
              <p:cNvSpPr/>
              <p:nvPr/>
            </p:nvSpPr>
            <p:spPr>
              <a:xfrm>
                <a:off x="515880" y="3324240"/>
                <a:ext cx="672480" cy="574560"/>
              </a:xfrm>
              <a:prstGeom prst="hexagon">
                <a:avLst>
                  <a:gd name="adj" fmla="val 30713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38" name="Line 33"/>
            <p:cNvSpPr/>
            <p:nvPr/>
          </p:nvSpPr>
          <p:spPr>
            <a:xfrm>
              <a:off x="1081440" y="3860640"/>
              <a:ext cx="3921840" cy="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9" name="Text Box 34"/>
            <p:cNvSpPr/>
            <p:nvPr/>
          </p:nvSpPr>
          <p:spPr>
            <a:xfrm>
              <a:off x="1581840" y="3335040"/>
              <a:ext cx="19548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0" name="Text Box 35"/>
            <p:cNvSpPr/>
            <p:nvPr/>
          </p:nvSpPr>
          <p:spPr>
            <a:xfrm>
              <a:off x="675720" y="3335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41" name="Group 36"/>
          <p:cNvGrpSpPr/>
          <p:nvPr/>
        </p:nvGrpSpPr>
        <p:grpSpPr>
          <a:xfrm>
            <a:off x="468360" y="4076640"/>
            <a:ext cx="4534920" cy="665280"/>
            <a:chOff x="468360" y="4076640"/>
            <a:chExt cx="4534920" cy="665280"/>
          </a:xfrm>
        </p:grpSpPr>
        <p:grpSp>
          <p:nvGrpSpPr>
            <p:cNvPr id="242" name="Group 37"/>
            <p:cNvGrpSpPr/>
            <p:nvPr/>
          </p:nvGrpSpPr>
          <p:grpSpPr>
            <a:xfrm>
              <a:off x="468360" y="4076640"/>
              <a:ext cx="798120" cy="665280"/>
              <a:chOff x="468360" y="4076640"/>
              <a:chExt cx="798120" cy="665280"/>
            </a:xfrm>
          </p:grpSpPr>
          <p:sp>
            <p:nvSpPr>
              <p:cNvPr id="243" name="AutoShape 38"/>
              <p:cNvSpPr/>
              <p:nvPr/>
            </p:nvSpPr>
            <p:spPr>
              <a:xfrm>
                <a:off x="474840" y="4087800"/>
                <a:ext cx="791640" cy="654120"/>
              </a:xfrm>
              <a:prstGeom prst="hexagon">
                <a:avLst>
                  <a:gd name="adj" fmla="val 3025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44" name="AutoShape 39"/>
              <p:cNvSpPr/>
              <p:nvPr/>
            </p:nvSpPr>
            <p:spPr>
              <a:xfrm>
                <a:off x="468360" y="4076640"/>
                <a:ext cx="792000" cy="654120"/>
              </a:xfrm>
              <a:prstGeom prst="hexagon">
                <a:avLst>
                  <a:gd name="adj" fmla="val 3027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45" name="AutoShape 40"/>
              <p:cNvSpPr/>
              <p:nvPr/>
            </p:nvSpPr>
            <p:spPr>
              <a:xfrm>
                <a:off x="514080" y="4116240"/>
                <a:ext cx="694800" cy="574920"/>
              </a:xfrm>
              <a:prstGeom prst="hexagon">
                <a:avLst>
                  <a:gd name="adj" fmla="val 3022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46" name="Line 41"/>
            <p:cNvSpPr/>
            <p:nvPr/>
          </p:nvSpPr>
          <p:spPr>
            <a:xfrm>
              <a:off x="1072080" y="4653000"/>
              <a:ext cx="3931200" cy="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7" name="Text Box 42"/>
            <p:cNvSpPr/>
            <p:nvPr/>
          </p:nvSpPr>
          <p:spPr>
            <a:xfrm>
              <a:off x="1564920" y="4148280"/>
              <a:ext cx="19260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8" name="Text Box 43"/>
            <p:cNvSpPr/>
            <p:nvPr/>
          </p:nvSpPr>
          <p:spPr>
            <a:xfrm>
              <a:off x="669960" y="4127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49" name="Group 44"/>
          <p:cNvGrpSpPr/>
          <p:nvPr/>
        </p:nvGrpSpPr>
        <p:grpSpPr>
          <a:xfrm>
            <a:off x="468360" y="4869000"/>
            <a:ext cx="4608360" cy="664920"/>
            <a:chOff x="468360" y="4869000"/>
            <a:chExt cx="4608360" cy="664920"/>
          </a:xfrm>
        </p:grpSpPr>
        <p:grpSp>
          <p:nvGrpSpPr>
            <p:cNvPr id="250" name="Group 45"/>
            <p:cNvGrpSpPr/>
            <p:nvPr/>
          </p:nvGrpSpPr>
          <p:grpSpPr>
            <a:xfrm>
              <a:off x="468360" y="4869000"/>
              <a:ext cx="761400" cy="664920"/>
              <a:chOff x="468360" y="4869000"/>
              <a:chExt cx="761400" cy="664920"/>
            </a:xfrm>
          </p:grpSpPr>
          <p:sp>
            <p:nvSpPr>
              <p:cNvPr id="251" name="AutoShape 46"/>
              <p:cNvSpPr/>
              <p:nvPr/>
            </p:nvSpPr>
            <p:spPr>
              <a:xfrm>
                <a:off x="474480" y="4880160"/>
                <a:ext cx="755280" cy="653760"/>
              </a:xfrm>
              <a:prstGeom prst="hexagon">
                <a:avLst>
                  <a:gd name="adj" fmla="val 2888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52" name="AutoShape 47"/>
              <p:cNvSpPr/>
              <p:nvPr/>
            </p:nvSpPr>
            <p:spPr>
              <a:xfrm>
                <a:off x="468360" y="486900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53" name="AutoShape 48"/>
              <p:cNvSpPr/>
              <p:nvPr/>
            </p:nvSpPr>
            <p:spPr>
              <a:xfrm>
                <a:off x="512640" y="4908600"/>
                <a:ext cx="663480" cy="57456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54" name="Line 49"/>
            <p:cNvSpPr/>
            <p:nvPr/>
          </p:nvSpPr>
          <p:spPr>
            <a:xfrm>
              <a:off x="1044360" y="5445000"/>
              <a:ext cx="4032360" cy="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5" name="Text Box 50"/>
            <p:cNvSpPr/>
            <p:nvPr/>
          </p:nvSpPr>
          <p:spPr>
            <a:xfrm>
              <a:off x="2255760" y="4919400"/>
              <a:ext cx="2314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急性镇静催眠药中毒患者的救护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6" name="Text Box 51"/>
            <p:cNvSpPr/>
            <p:nvPr/>
          </p:nvSpPr>
          <p:spPr>
            <a:xfrm>
              <a:off x="652680" y="4919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57" name="矩形 55"/>
          <p:cNvSpPr/>
          <p:nvPr/>
        </p:nvSpPr>
        <p:spPr>
          <a:xfrm>
            <a:off x="1403280" y="3284640"/>
            <a:ext cx="422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一氧化碳中毒患者的救护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矩形 56"/>
          <p:cNvSpPr/>
          <p:nvPr/>
        </p:nvSpPr>
        <p:spPr>
          <a:xfrm>
            <a:off x="1403280" y="4076640"/>
            <a:ext cx="415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急性酒精中毒患者的救护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59" name="Group 44"/>
          <p:cNvGrpSpPr/>
          <p:nvPr/>
        </p:nvGrpSpPr>
        <p:grpSpPr>
          <a:xfrm>
            <a:off x="468360" y="5732640"/>
            <a:ext cx="4608360" cy="666000"/>
            <a:chOff x="468360" y="5732640"/>
            <a:chExt cx="4608360" cy="666000"/>
          </a:xfrm>
        </p:grpSpPr>
        <p:grpSp>
          <p:nvGrpSpPr>
            <p:cNvPr id="260" name="Group 45"/>
            <p:cNvGrpSpPr/>
            <p:nvPr/>
          </p:nvGrpSpPr>
          <p:grpSpPr>
            <a:xfrm>
              <a:off x="468360" y="5732640"/>
              <a:ext cx="761400" cy="666000"/>
              <a:chOff x="468360" y="5732640"/>
              <a:chExt cx="761400" cy="666000"/>
            </a:xfrm>
          </p:grpSpPr>
          <p:sp>
            <p:nvSpPr>
              <p:cNvPr id="261" name="AutoShape 46"/>
              <p:cNvSpPr/>
              <p:nvPr/>
            </p:nvSpPr>
            <p:spPr>
              <a:xfrm>
                <a:off x="474480" y="5743800"/>
                <a:ext cx="755280" cy="654840"/>
              </a:xfrm>
              <a:prstGeom prst="hexagon">
                <a:avLst>
                  <a:gd name="adj" fmla="val 28835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62" name="AutoShape 47"/>
              <p:cNvSpPr/>
              <p:nvPr/>
            </p:nvSpPr>
            <p:spPr>
              <a:xfrm>
                <a:off x="468360" y="5732640"/>
                <a:ext cx="755640" cy="654840"/>
              </a:xfrm>
              <a:prstGeom prst="hexagon">
                <a:avLst>
                  <a:gd name="adj" fmla="val 2884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63" name="AutoShape 48"/>
              <p:cNvSpPr/>
              <p:nvPr/>
            </p:nvSpPr>
            <p:spPr>
              <a:xfrm>
                <a:off x="512640" y="5771880"/>
                <a:ext cx="663480" cy="576000"/>
              </a:xfrm>
              <a:prstGeom prst="hexagon">
                <a:avLst>
                  <a:gd name="adj" fmla="val 2881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64" name="Line 49"/>
            <p:cNvSpPr/>
            <p:nvPr/>
          </p:nvSpPr>
          <p:spPr>
            <a:xfrm>
              <a:off x="1044360" y="6310080"/>
              <a:ext cx="4032360" cy="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5" name="Text Box 50"/>
            <p:cNvSpPr/>
            <p:nvPr/>
          </p:nvSpPr>
          <p:spPr>
            <a:xfrm>
              <a:off x="2097720" y="5783400"/>
              <a:ext cx="1857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强酸强碱中毒患者的救护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6" name="Text Box 51"/>
            <p:cNvSpPr/>
            <p:nvPr/>
          </p:nvSpPr>
          <p:spPr>
            <a:xfrm>
              <a:off x="653400" y="5783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7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有机磷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56760" y="149976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、有机磷中毒患者的救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9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6B955-DD18-45C1-8752-AD1E432C5BB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0" name="圆角矩形 4"/>
          <p:cNvSpPr/>
          <p:nvPr/>
        </p:nvSpPr>
        <p:spPr>
          <a:xfrm>
            <a:off x="324000" y="2349360"/>
            <a:ext cx="8496000" cy="352764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案例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16-1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患者，男性，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52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岁，因突然昏迷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小时急诊入院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入院查体：体温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36.2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℃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，脉搏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110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分，呼吸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23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分，血压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95/60mmHg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，处于浅昏迷状态，面色苍白，口唇紫绀，口吐白沫，皮肤湿冷，呼吸困难，双侧瞳孔缩小如针尖，呼吸有大蒜样臭味，听诊肺部湿啰音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问题：该患者最可能发生什么状况？为进一步明确诊断，需要做哪些检查？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有机磷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中毒机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抑制胆碱酯酶的活性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，导致胆碱能神经递质大量积聚，作用于胆碱受体，引起胆碱能神经先兴奋后抑制的一系列毒蕈碱样、烟碱样及中枢神经系统中毒的症状和体征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8736120" cy="512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识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描述急性中毒的基本救治措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描述催吐和洗胃的适应证、禁忌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描述常见毒物中毒的临床表现和救护措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006C2-D1BE-4BD0-93A8-0479D899E3B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有机磷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324000" y="907920"/>
            <a:ext cx="8610480" cy="498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护理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646200" indent="-24840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毒物接触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646200" indent="-24840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994320" indent="-19872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毒蕈碱样症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994320" indent="-19872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烟碱样症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994320" indent="-19872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中枢神经系统症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646200" indent="-24840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实验室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994320" indent="-19872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全血胆碱酯酶活性测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994320" indent="-19872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有机磷杀虫药代谢产物测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994320" indent="-19872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其他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646200" indent="-24840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646200" indent="-24840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646200" indent="-24840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有机磷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主要护理问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体液不足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与严重呕吐、腹泻导致体液丢失过多有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气体交换受损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与呼吸道腺体分泌过多有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意识障碍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与有机磷毒物累及中枢神经系统有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知识缺乏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缺乏对有机磷杀虫药毒性认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潜在并发症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：肺水肿、呼吸衰竭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有机磷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304920" y="1268280"/>
            <a:ext cx="8610480" cy="498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救护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急救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迅速清除毒物：立即脱离中毒现场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特效解毒药：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抗胆碱药和胆碱酯酶复能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维持生命体征稳定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对症处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有机磷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护理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密切观察病情和生命体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用药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一般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心理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百草枯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二、百草枯中毒患者的救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百草枯是一种被广泛应用于园艺和农业生产中的除草剂，对人、畜具有很强毒性，且无特效解毒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中毒机制：百草枯作用于细胞的氧化还原反应，在细胞内活化氧自由基是中毒作用的基础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百草枯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324000" y="981000"/>
            <a:ext cx="8610480" cy="512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护理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668520" indent="-2570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毒物接触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668520" indent="-2570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028520" indent="-20556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局部刺激症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028520" indent="-20556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呼吸系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028520" indent="-20556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消化系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028520" indent="-20556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泌尿系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028520" indent="-20556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循环系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028520" indent="-20556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中枢神经系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028520" indent="-20556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血液系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668520" indent="-2570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百草枯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04920" y="1125000"/>
            <a:ext cx="8610480" cy="512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实验室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毒物鉴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胸部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X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线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动脉血气分析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百草枯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主要护理问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低效性呼吸型态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与百草枯作用于呼吸系统有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潜在并发症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：肾功能障碍、消化道出血、肝功能障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知识缺乏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缺乏百草枯中毒及相关急救常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百草枯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救护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急救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立即脱离中毒现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迅速清除毒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促进已吸收毒物的排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对症治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百草枯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护理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严密观察病情变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一般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8000" y="1125000"/>
            <a:ext cx="8856720" cy="512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理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解释清除胃肠道中毒物的措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比较催吐和洗胃两种中毒抢救技术的异同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解释常见毒物中毒的中毒机制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解释一氧化碳中毒进行高压氧治疗的注意事项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比较强酸中毒与强碱中毒在临床表现及救护措施上的区别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A8FDE-B3BD-4752-A4E3-14D013A8864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灭鼠剂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三、急性灭鼠剂中毒患者的救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护理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毒物接触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毒鼠强中毒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氟乙酸钠中毒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磷化锌中毒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实验室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灭鼠剂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主要护理问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潜在并发症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：神经、呼吸、消化等功能障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知识缺乏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缺乏灭鼠剂对人体毒性的认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灭鼠剂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救护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急救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毒鼠强中毒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氟乙酸钠中毒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磷化锌中毒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3" name="线形标注 2 4"/>
          <p:cNvSpPr/>
          <p:nvPr/>
        </p:nvSpPr>
        <p:spPr>
          <a:xfrm>
            <a:off x="4356000" y="2133720"/>
            <a:ext cx="4608720" cy="107928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74157"/>
              <a:gd name="adj6" fmla="val -20032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迅速清除毒物；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控制抽搐；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解毒剂：二巯基丙磺酸钠、维生素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B6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；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对症治疗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4" name="线形标注 2 5"/>
          <p:cNvSpPr/>
          <p:nvPr/>
        </p:nvSpPr>
        <p:spPr>
          <a:xfrm>
            <a:off x="4284720" y="3500280"/>
            <a:ext cx="4648320" cy="115092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0097"/>
              <a:gd name="adj6" fmla="val -23106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迅速清除毒物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特效解毒剂：乙酰胺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对症治疗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5" name="线形标注 2 6"/>
          <p:cNvSpPr/>
          <p:nvPr/>
        </p:nvSpPr>
        <p:spPr>
          <a:xfrm>
            <a:off x="4211640" y="4869000"/>
            <a:ext cx="4753080" cy="10080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-46384"/>
              <a:gd name="adj6" fmla="val -23412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迅速清除毒物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对症治疗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7" dur="500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9" dur="500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1" dur="500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灭鼠剂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护理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病情观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一般护理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氧化碳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178920" y="1371240"/>
            <a:ext cx="8736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四、一氧化碳中毒患者的救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中毒机制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人体吸入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CO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后，通过肺泡进入血液循环，与血液中红细胞的血红蛋白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(Hb)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结合，形成稳定的</a:t>
            </a: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碳氧血红蛋白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COHb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）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COHb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不能携带氧，且不易解离，使血红蛋白氧解离曲线左移，血液的携氧能力降低，从而导致组织缺氧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氧化碳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324000" y="980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护理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631440" indent="-2426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毒物接触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631440" indent="-2426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971280" indent="-19404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轻度中毒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971280" indent="-19404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中度中毒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971280" indent="-19404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重度中度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971280" indent="-19404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中毒后迟发性脑病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631440" indent="-2426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实验室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971280" indent="-19404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血液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  <a:ea typeface="宋体"/>
              </a:rPr>
              <a:t>COHb</a:t>
            </a: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测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971280" indent="-19404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其他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631440" indent="-242640"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631440" indent="-242640"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291600" indent="-2916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氧化碳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主要护理问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意识障碍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与大脑缺氧有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心输出量减少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与心肌缺氧有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潜在并发症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：有中毒后迟发性脑病的危险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知识缺乏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缺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CO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对人体毒性的认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氧化碳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救护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急救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迅速撤离现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氧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预防中毒后迟发性脑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氧化碳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护理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严密观察病情和生命体征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氧疗的护理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一般护理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酒精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五、急性酒精中毒患者的救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酒精，学名乙醇，是日常生活中各类酒饮料的主要成分，也可用作医用消毒剂、工业原料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中毒机制：中枢神经系统损害、代谢异常、心脏损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79280" y="1125000"/>
            <a:ext cx="8856720" cy="512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运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分析有机磷杀虫药中毒时，遵医嘱应用胆碱酯酶复能剂的用药观察与护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说出各种常见急性中毒患者的救护措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D4692-76AF-4AFD-8F96-A27B28A9089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酒精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护理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毒物接触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兴奋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共济失调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昏迷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酒精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辅助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血清乙醇浓度测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动脉血气分析和电解质测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心电图检查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血糖检测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肝功能检测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酒精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主要护理问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意识障碍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与酒精作用于中枢神经系统有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知识缺乏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缺乏酒精对人体毒性的认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潜在并发症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：休克，窒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酒精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救护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急救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迅速清除毒物：催吐、洗胃、促进乙醇的体内代谢和排出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特效解毒剂：纳洛酮是阿片类受体拮抗剂，具有改善呼吸和循环功能、兴奋呼吸和催醒的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对症治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酒精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护理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8ac8de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密切观察病情变化和生命体征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8ac8de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一般护理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8ac8de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安全防护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镇静催眠药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六、急性镇静催眠药中毒患者的救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镇静催眠药是中枢神经系统抑制剂，在临床上广泛应用于镇静、催眠、抗惊厥以及麻醉前给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其中，巴比妥类和苯二氮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微软雅黑"/>
              </a:rPr>
              <a:t>䓬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类镇静催眠药中毒最常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镇静催眠药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护理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毒物接触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巴比妥类药物中毒：轻度中毒、中度中毒、重度中毒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苯二氮䓬类药物中毒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镇静催眠药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辅助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血液、尿液、胃液中药物浓度测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血液生化检查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动脉血气分析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心电图检查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镇静催眠药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主要护理问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意识障碍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与镇静催眠药作用于中枢神经系统有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潜在并发症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：呼吸抑制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镇静催眠药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救护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急救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立即清除毒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特效解毒剂：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氟马西尼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是苯二氮䓬类药物中毒的特效解毒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维持重要器官功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防治并发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灯片编号占位符 5"/>
          <p:cNvSpPr/>
          <p:nvPr/>
        </p:nvSpPr>
        <p:spPr>
          <a:xfrm>
            <a:off x="4067280" y="6524640"/>
            <a:ext cx="11318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CE4B6-8E37-42EA-800F-17DCC66DB64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39640" y="1785600"/>
            <a:ext cx="82994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定义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黑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急性中毒是指大量毒物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短时间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内进入人体或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毒性剧烈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的毒物突然进入人体，导致机体受损并发生功能障碍，甚至危及生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镇静催眠药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护理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严密观察病情变化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一般护理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强酸强碱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178920" y="1371240"/>
            <a:ext cx="8736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七、强酸强碱中毒患者的救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强酸（如硫酸、盐酸和硝酸等）和强碱（如氢氧化钠、氢氧化钾、氧化钠和氧化钾等）均具有强烈的刺激和腐蚀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强酸强碱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护理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毒物接触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经消化道吸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经呼吸道吸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经皮肤黏膜接触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接触眼睛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全身表现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强酸强碱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主要护理问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气体交换受损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与吸入强酸、强碱烟雾后致使气道黏膜充血、水肿及浆液性分泌物过多有关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皮肤完整性受损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与强酸、强碱刺激皮肤黏膜有关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自我形象紊乱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与强腐蚀性毒物造成皮肤黏膜损害有关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焦虑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与担心疾病预后、费用昂贵等有关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知识缺乏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缺乏强酸、强碱急救常识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强酸强碱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救护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急救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强酸中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强碱中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2" name="线形标注 1 4"/>
          <p:cNvSpPr/>
          <p:nvPr/>
        </p:nvSpPr>
        <p:spPr>
          <a:xfrm>
            <a:off x="3419640" y="1125360"/>
            <a:ext cx="5545080" cy="3672000"/>
          </a:xfrm>
          <a:prstGeom prst="borderCallout1">
            <a:avLst>
              <a:gd name="adj1" fmla="val 18750"/>
              <a:gd name="adj2" fmla="val -8333"/>
              <a:gd name="adj3" fmla="val 46750"/>
              <a:gd name="adj4" fmla="val -16430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）口服中毒者：尽早给予镁乳、氢氧化铝凝胶或石灰水等弱碱溶液中和强酸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）呼吸道吸入者：立即吸氧，给予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2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4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碳酸氢钠溶液雾化吸入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）皮肤灼伤者：快速用大量流动水冲洗，然后给予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2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5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碳酸氢钠或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1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氨水或肥皂水中和强酸，然后再用水冲洗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）眼睛接触者：立即用大量清水或生理盐水彻底清洗，然后给予可的松及抗生素眼药水交替滴眼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3" name="线形标注 1 5"/>
          <p:cNvSpPr/>
          <p:nvPr/>
        </p:nvSpPr>
        <p:spPr>
          <a:xfrm>
            <a:off x="2987640" y="2205000"/>
            <a:ext cx="6156360" cy="3960720"/>
          </a:xfrm>
          <a:prstGeom prst="borderCallout1">
            <a:avLst>
              <a:gd name="adj1" fmla="val 18750"/>
              <a:gd name="adj2" fmla="val -8333"/>
              <a:gd name="adj3" fmla="val 34902"/>
              <a:gd name="adj4" fmla="val -15319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）口服强碱者：立即用食醋、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3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5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醋酸、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5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稀盐酸、柠檬汁或橘汁等弱酸溶液中和，然后服用生蛋清或牛奶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）吸入强碱者：吸入性氨中毒者，保持呼吸道通畅，积极氧疗，必要时气管切开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）皮肤接触者：尽快用大量流动水冲洗，然后涂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1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醋酸溶液中和强碱，应避免在冲洗前使用中和剂，以防发生中和热而加重损伤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）眼部接触者：立即用清水反复冲洗，然后滴入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1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的硫酸阿托品。石灰灼伤者，先将石灰粉末擦拭干净，再用大量流动清水冲洗，防止石灰遇水生热而加重烧伤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5" dur="500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7" dur="500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强酸强碱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护理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严密观察病情和生命体征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营养支持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口腔护理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心理护理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灯片编号占位符 5"/>
          <p:cNvSpPr/>
          <p:nvPr/>
        </p:nvSpPr>
        <p:spPr>
          <a:xfrm>
            <a:off x="4284720" y="6524640"/>
            <a:ext cx="12240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84A91-A97C-417E-A015-1715D48A9AA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23640" y="1628640"/>
            <a:ext cx="8515080" cy="45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一、立即终止接触毒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一）吸入性中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立即将患者从有毒环境转移到空气新鲜的地方，并解开衣扣、裤带，保持呼吸道通畅，给氧，注意保暖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二）接触性中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立即脱离中毒现场，脱去污染衣物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三）现场抢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心跳呼吸骤停者，立即给予现场心肺复苏术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灯片编号占位符 5"/>
          <p:cNvSpPr/>
          <p:nvPr/>
        </p:nvSpPr>
        <p:spPr>
          <a:xfrm>
            <a:off x="4427640" y="6524640"/>
            <a:ext cx="91440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5114D-FEE9-4C8D-8925-6AF409628FD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8964720" cy="48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二、清除尚未吸收的毒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一）清除皮肤黏膜上的毒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立即脱去污染的衣物，先用毛巾、棉花或卫生纸等拭去肉眼可见的毒物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然后用清水或肥皂水反复清洗患者体表、毛发、皮肤皱褶处、甲缝内的毒物，冲洗时间应达到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  <a:ea typeface="宋体"/>
              </a:rPr>
              <a:t>15</a:t>
            </a: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  <a:ea typeface="宋体"/>
              </a:rPr>
              <a:t>30 </a:t>
            </a: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分钟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，毒物种类明确者可使用特殊清洗液（表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16-1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）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539640" y="2133720"/>
          <a:ext cx="7704360" cy="2666880"/>
        </p:xfrm>
        <a:graphic>
          <a:graphicData uri="http://schemas.openxmlformats.org/drawingml/2006/table">
            <a:tbl>
              <a:tblPr/>
              <a:tblGrid>
                <a:gridCol w="3853080"/>
                <a:gridCol w="3851280"/>
              </a:tblGrid>
              <a:tr h="53316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毒物种类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皮肤清洁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酸性（有机磷、甲醛、强酸等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%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碳酸氢钠或肥皂水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3352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碱性（氨水、氢氧化钠等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醋酸、食醋、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%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%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硼酸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316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无机磷（磷化锌等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%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碳酸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352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苯类、香蕉水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0%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乙醇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TextBox 8"/>
          <p:cNvSpPr/>
          <p:nvPr/>
        </p:nvSpPr>
        <p:spPr>
          <a:xfrm>
            <a:off x="2484360" y="1557360"/>
            <a:ext cx="3959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表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6-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常见皮肤清洁剂及适应证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微软用户</cp:lastModifiedBy>
  <cp:lastPrinted>1899-12-30T00:00:00Z</cp:lastPrinted>
  <dcterms:modified xsi:type="dcterms:W3CDTF">2015-08-30T18:23:25Z</dcterms:modified>
  <cp:revision>116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